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7B5-BC41-4B41-B4EA-0881ABA6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307-E184-4BF3-B51E-FA9170D8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D8F-746C-4BC6-A531-8ECF676A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07E-65DF-4A4B-AFAC-A99CA5DD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038-36F1-4B81-B6A9-77FCA68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246-4672-4EC6-AEB5-9C7520B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2D6-969F-4FF4-9FAB-ED518A4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501-A484-4E59-B14E-7BFAE5E5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C44-0230-4DD3-9570-FE1B3C94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2F5-FF2A-42FC-9D91-8BDE6AD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EDA-36C8-4624-AD1F-D6098964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011-92C3-40FD-99DF-CCE8EB6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B867-5B82-4476-A0F5-4E19A095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Jake Latini, Luke Marcheski and Isabelle Pil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18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8: Czar Nicholas II and his family where m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soon became the Union of Soviet Scolastic Republic(USSR or the Soviet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War between the Red Army and the White Russ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4-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4: Lenin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9: Stalin became the dictator of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9: September- USSR occupied Poland after Germany invaded                                November- USSR and Finland battle for land in the Win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0: February: The Winter War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45-19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: Berlin surrenders to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: The USA bombed Hiroshima and Nagaski which ended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dies and is taken over by Nikita Khrushch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launches “Sputni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1-196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-Yuri Gagarin becomes the first astronaut. The Soviet Union builds a wall between East and West Berl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-The Cuban Missile Cri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4-Khrushchev was replaced by Leonid Brezhnev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5-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-The Soviet Union backs North Vietnam against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-The USSR loses to the US in the hockey Olympics 4 to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-Mikhail Gorbachev becomes a leader of the Sovie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The nuclear accident in Chernob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6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4:31Z</dcterms:created>
  <dc:creator> </dc:creator>
  <dc:description/>
  <dc:language>en-US</dc:language>
  <cp:lastModifiedBy> </cp:lastModifiedBy>
  <dcterms:modified xsi:type="dcterms:W3CDTF">2010-12-14T16:08:38Z</dcterms:modified>
  <cp:revision>2</cp:revision>
  <dc:subject/>
  <dc:title>Russian History 1918-2000</dc:title>
</cp:coreProperties>
</file>